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12.png" ContentType="image/png"/>
  <Override PartName="/ppt/media/image11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5CB4-9899-42BB-AB71-4F98937E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1344-22BB-48A2-85FF-2BBDEE5D6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3560-3AAB-4E15-94BD-6F2078AFE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C6D7-2999-47BE-80C2-90AC5C30F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2872-9F7E-4886-92B8-3B4934AC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D540-6889-4E29-A612-158BA468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072A-201F-4215-B678-344F5D7C9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4358-9624-49E3-9890-2E3416BB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DA3-DE69-4391-AE7F-6A7F5ABF5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F884-4C65-431E-A30F-E8B285A02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81A3-1882-4076-87AE-1F5F54AB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C3E3-0095-4706-941C-B59E45D9C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17E-76E6-4EEC-BAFD-DB998C27A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8617-8B93-431C-B24D-DAA6366D3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A740-AF5E-4B96-94C4-9A33EDB38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F875-5DC0-4B07-B099-CFBF7273D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05B0-7DE0-498F-89EB-1ADD7BA1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FB7F-C3CB-4C96-8FFE-37D825F2A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3FAB-9132-4264-8BC1-4473E820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B48B-043A-4511-9AA0-9E594265C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041-1FB9-49C3-A493-85E64FAC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6D15-20A7-4986-B792-67BB62ADD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FC2E-AC78-4A98-8125-8C0E22693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AD51-3829-41C2-B386-F6D2E499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9DAF-7600-4997-8926-319CE8F8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8573-747B-497D-9930-F22A28B0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ACAF-EBD5-4790-9314-E8FCA6BF7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AFDA-70BB-48D8-8F13-2EC992B7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C140-4975-4668-85E4-768A6E50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275E-5393-4119-8FC7-DB7A865F1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8B83-3B0A-42D9-9808-C5DFD7D4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33FC-E640-4E48-B677-3E13ED8B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6DF1-24AB-445D-8668-991AE1659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118-7ECC-4FF9-9E06-328FED56A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1FA7-FEB9-4DF2-9F38-85858ACD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2CE0-6B01-49CE-90F8-83613C26B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F684-D321-4F2C-9812-246C58C6C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615E-BC50-4DAE-8D5B-2C0A516AC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E24F-0716-4386-B4EC-E074D5A01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A895-04CA-4B10-ABDD-8761F437C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D6FC-CD96-413C-BE11-E41F840A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1FCC-20B6-482D-B17F-3BB69A879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8370-4139-450E-B464-549EDE17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98FC-4EC3-471C-81A8-F67EBB92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76E-4163-499E-B772-3892E94D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F63-62AE-4B89-A2AC-466FA221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B9198-CE82-4E32-B4FB-2C8AD6AC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79BCC-720F-46A1-A7BB-3AA3A985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96091-1D96-47B1-B268-3D6E0732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66BEA-15D0-465B-BB9E-E47F4C3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CF75F-253C-457B-9938-C69275E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22F40-388E-495F-BDFF-F6DA532F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922F6-0803-410F-A447-E1AD120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F668B-3E9B-416E-8163-F9387487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10884-6873-4E6D-B1A8-11AF1A35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44C99-C95A-4833-9E44-CD958939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A93-B20B-4104-A1A9-CDDAE991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F7467-ED8D-46F2-B59D-C2599530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D54DC-F51D-4B10-A7F0-A7F5B88A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2375D-B952-4597-B10A-684D533B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57F54-5043-4422-BF04-24E0D741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0AACA-5674-43BD-B38C-5D81EB17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AC8A3-D2CC-4031-95C5-46986971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E7943-728A-4E4E-AF9C-1268889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7E91D-AF6F-4DB0-BC7D-4FA7B79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1B05E-7407-448F-AA5E-CC2DB2A7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A81A5-CFB0-48FD-AEB2-1D55F8AA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1A7-7788-4844-A280-64F2ABB6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3C292-4E22-4F38-827F-BE8636CA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505B-6E5A-4B1D-AACE-822E3968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976B-6355-4B41-B808-53FAE395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73CA-EF82-4374-9F4E-3E1253E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BEEC-6A8B-4CCA-93CA-E902F612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BAE9-183E-4A07-92AB-251B809B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38EF-8943-453E-9046-4F72B56D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F0B8-F1B3-447A-A7D9-7274198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FA9-64A5-44DC-8727-593C3B42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407F-FF4F-4AB9-AB8B-993DC5C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AEB2-08E4-4D58-B834-E73B8EE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AAD2-2F3D-4437-9AE8-D9EE65F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9F2F-69EB-476A-9E62-E45A37D7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54B9-5A4F-4B9F-9181-4C6175E8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3C97-BE8D-4F38-89CB-8508E4F0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0EB8-AEB1-456A-95CD-442889DD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6B8D-7645-41A3-ACC3-B2D8BC7A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5A85-F24A-4D49-A99D-DBBA5B02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0305-5DE4-4B2B-B8F0-DB57F9E7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AA5-82CC-4B9C-83F0-3E4F1F55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FC4F-6D71-4833-A38D-18DCA42F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22CF-E016-4165-A23D-928C4D12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6F2C-0D71-4945-8EEA-0B61D94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6E1A-983C-4E6C-BBAA-A687178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3900-47B8-4DFB-A0AF-F6511EDF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2BDD-2B6E-4253-B32B-49A5E9C0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66AD-EE21-42D1-8075-4B0487D4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6CCE5-88F1-4DEC-9533-0116C5D6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0166A-CD5A-4B8E-BEEE-C2D1C7FF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921A6-8B3C-46F8-9939-6C95A82A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88D-50C9-4A7B-8BF5-2A75BC22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0C496-AF39-490B-9255-2ADB753C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1CBF-2062-41DB-82E0-377D767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3A4C-33A2-45C5-9FD1-108E99A8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A3B0-3288-4CCE-8712-DE7D709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F935-EC83-4C5E-ACF5-2608CD61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93CB-569E-4EAE-A1CA-F546162B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BC4D-D4C4-415A-8E1D-5C6143BA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57591-6E3E-4447-9C99-2F249C97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37BB-AF38-4515-ABCE-8538E5F7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654FD-85B4-4F0D-A878-38A45030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13A-DD8D-49F4-B032-8EED76F8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8AEFB-1549-4F12-9AD7-8DCBC940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E49B-C243-4643-A0E7-FA986EA9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9A54D-35E1-4E1D-95F0-E1E397C2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FA7CD-03ED-4FD8-A2D6-514DAE52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71B69-3329-4923-9607-6805DD5E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E179E-701C-46DD-9AD8-858B34A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160F-25EC-4F4C-AF59-7A4BB95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414EE-8498-4551-ACB5-251FE65C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49B30-718C-44FD-B95F-A14CA57F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F2211-9A1B-4A32-81E3-4C0DFE50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BE1-B331-4BCF-9BC3-8AE5232C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1D221-01B4-406E-9025-8FD8252E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962A2-3D4A-4B67-B285-A13DB5DF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6726C-7ABB-410F-B57F-A683DC35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BB543-C035-4D52-B68B-57BB7ED7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6A22D-FCCB-44C5-BC62-DD0A4846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3992-46E0-4E42-AC8B-53E3A045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4185-5D20-4EFE-8EA4-B77D0A5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515C-877D-4753-847A-04035C56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B3C2B-8F6D-4257-BB3C-E01A4CF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C02C2-B7FB-4E3E-920B-E8BEEA4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CB6-A907-470E-AF75-708D452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CF2B-3A2B-464C-B779-B8580A22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C1A8B-7963-441A-B299-FD6D6264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61B36-0271-4D95-AE38-E9ACA034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E5836-F1CE-4521-87BC-DF5961D6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57F45-FE8A-4F37-81CE-536D7BAC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19EA9-9CDE-43A7-A79B-8FAB626A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ACA09-ADA5-4344-97F4-8EE87627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0D88B-2D38-4E5F-9724-9E87B2CD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7F06-9DAC-4DF9-8115-D24F45E9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F6670-BB4A-47E6-B964-E69CBED3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907-3F80-41B9-9EF0-375D75E5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BF10A-6720-4072-9838-C5BA5A78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39070-C2BA-467C-8F74-15AE777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57104-3392-4E91-883F-FE630175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252A1-3EF0-4761-9A28-441A0EEA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25CF6-F87C-4EF2-B26A-B50BD17B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AA051-B699-4CC9-8669-B84B5A14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E8BDE-FA28-4469-A5B8-2768CD61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22735-2B70-43BC-91C4-0EA9CA75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4E907-F051-4A55-83FF-174B70CC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97F1B-0EF3-4E68-85EF-A95C279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0DF-7159-46FB-BFF5-D98A55A5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041D0-F353-4E46-BFB6-273CE78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BC66B-46E1-4BB5-B966-B0DE729C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CE929-492E-4DAB-898F-B966C59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01D99-1618-4780-A2B2-682E3F47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1C482-3600-4918-A5E3-58F01678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D64EB-66B7-4987-BAE3-5D5510A0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2BCFE-9795-49DC-8DDC-2404376A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F3CBF-5150-4D8E-BA1E-AA4E2FA5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04041-9FB8-4CE2-B465-70A0965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BCF5B-2BFA-4795-9EDD-EB4EA91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915F-779E-4820-AEA8-0C4A352AB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1955-4923-41B8-BF19-53CAA896E8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BCF8-4FB8-4619-A5DF-43FA7D4897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C067-F879-43C1-AF53-197290FA28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C6F0-E556-4C13-AF7B-0045D690C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8BF3-3C69-4E64-BE8F-72BFBE719F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716D-FDE5-47C8-8C18-F7B38109E5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E36-1932-43EF-931F-D190723CDA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7EA5-792F-4220-833F-EF8DD2B0F4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9522-73FD-46FF-B5A8-26C9EFE94C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stopbullyingnow.hrsa.gov/" TargetMode="External"/><Relationship Id="rId2" Type="http://schemas.openxmlformats.org/officeDocument/2006/relationships/hyperlink" Target="http://www.targetbully.com/" TargetMode="External"/><Relationship Id="rId3" Type="http://schemas.openxmlformats.org/officeDocument/2006/relationships/hyperlink" Target="http://www.backoffbully.com/" TargetMode="External"/><Relationship Id="rId4" Type="http://schemas.openxmlformats.org/officeDocument/2006/relationships/hyperlink" Target="http://www.dac.neu.edu/cp/mspa/html1/mspa32.htm" TargetMode="External"/><Relationship Id="rId5" Type="http://schemas.openxmlformats.org/officeDocument/2006/relationships/hyperlink" Target="http://www.nea.org/schoolsafety/bullying.html" TargetMode="External"/><Relationship Id="rId6" Type="http://schemas.openxmlformats.org/officeDocument/2006/relationships/hyperlink" Target="http://www.clemson.edu/olweus/index.html" TargetMode="External"/><Relationship Id="rId7" Type="http://schemas.openxmlformats.org/officeDocument/2006/relationships/hyperlink" Target="http://www.mentalhealth.samhsa.gov/15plus/" TargetMode="External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pproximately 30 percent of students are regularly involved in bully, either as bullies or both (National Resource Center for Safe Schools, 2001;National Institutes of Health, April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pproximately 15 percent “severely traumatized or distressed” and eight percent report being victimized at least once a week (Skiba &amp; Fontanini, 2000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lying occurs once every seven minutes (Bureau of Justice Statistics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61.6% of students who are bullied are picked on because of their looks or speech (U.S. News &amp; World Report, May 7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very day approximately 160,000 students stay home from school because they are afraid of being bullied (Vail, 1999; Banks, 2000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lying peaks in sixth through eighth grades (Office of Juvenile Justice and Delinquency Prevention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omicide perpetrators more than twice as likely as homicide victims to have been bullied by peers (U.S. Department of Education and Justice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 sure the books, videos, and other resources selected for children are developmentally and age-appropriat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ook for materials that explain and illustrate the many forms that bullying can tak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elect materials that show boys AND girls involved in bully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ook for materials that suggest or show appropriate and realistic solutions to bullying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ook for materials that have won awards or received positive reviews by professionals, parents, children, or youth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clear definition of bully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tatement that clearly says bullying is unacceptab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sitive conflict resolution, caring and respect is valu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description of how the school proposes to deal with bullies and victi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couragement for students and parents to share concer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ool climate shapes student behavior and lear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dentify the components of strong school climate and how they affect student behavior and learn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ange school culture to support productive student behavior and effective learn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mentorships and other relationship-based strategies to promote productive student behavi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 a school-wide productive behavior syst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chool Level Interventions (entire school popul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stablish a bullying prevention coordinating committe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dminister an anonymous questionnaire surve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old a school conference da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mprove supervision and outdoor environ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nvolve paren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assroom Level Interventions (entire classroom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stablish classroom rules against bully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reate positive and negative consequences of bully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old regular classroom meeting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Meet with paren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dividual Level Interventions (specific students involved in bullying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erious talks (with possible referral to therapy) with students who bull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erious talks (with possible referral to therapy) with students who are victimize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nvolve the paren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hange of class or schoo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219240" y="103320"/>
            <a:ext cx="847404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lly Victimization Scale (BV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lly Victimization Distress Scale (BVD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ool Violence Anxiety Scale (SVA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wearer, S. M. &amp;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Love, K. B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(in press). Review of the Reynolds Bully-Victim Scale for Schools. In B. S. Plake &amp; J. C. Impara (Eds.),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The Fifteenth Mental Measurements Yearbook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Lincoln, NE: Buros Institute of Mental Measurement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lweus Bully/Victim Questionnaire (Solberg &amp; Olweus, 2003; Olweus, 1994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ully Surveys (Swearer, 2001; Swearer &amp; Cary, 200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verview: Furlong, M., Greif, J., &amp; Sharkey, J. (March, 200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Assessing violence in our schools: Bullying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Presentation at annual meeting of the National Association of School Psychologists, Atlanta, G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eps to Respect (Committee for Child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lweus Bullying Prevention Progr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lly Busters (Horne et al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ffective Behavioral Suppo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219240" y="103320"/>
            <a:ext cx="847404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Look at behavior that contributes to bully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Improve social skill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ssertiveness train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onflict resolu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tress managemen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4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510760" cy="115272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gular consultation and communi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vide information about the effects of bully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ising parents of possible consequences of their children bringing valuable items to schoo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viting parents to plays/dra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7" descr="MCj02975750000[1]"/>
          <p:cNvPicPr/>
          <p:nvPr/>
        </p:nvPicPr>
        <p:blipFill>
          <a:blip r:embed="rId2"/>
          <a:stretch/>
        </p:blipFill>
        <p:spPr>
          <a:xfrm>
            <a:off x="5487840" y="2130480"/>
            <a:ext cx="3043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Rectangle 4" descr=""/>
          <p:cNvPicPr/>
          <p:nvPr/>
        </p:nvPicPr>
        <p:blipFill>
          <a:blip r:embed="rId1"/>
          <a:stretch/>
        </p:blipFill>
        <p:spPr>
          <a:xfrm>
            <a:off x="219240" y="55440"/>
            <a:ext cx="8821440" cy="137664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rvey metho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rpreting and presenting da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ata-based decision-mak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oys tend to be more direct and girls more indirect (National Resource Center for Safe Schools, 1999; Crick &amp; Grotpeter, 1995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oys engage in bullying more frequently than girls (Banks, 2000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oys tend to bully both boys and girls (Hoover &amp; Oliver, 1996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rls tend to target other girls of the same age and take the form of teasing and social exclusion (Olweus, 2002; Nansel et al., 2001; Underwood, 2003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rls are more likely to bully in a group (Kreidler, 1996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llying by girls is often more subtle and harder to detect (NRCSS, 1999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4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510760" cy="1152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 frequently students have been bullie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ays it which it happe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 often bullying occu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om the victims tel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at action was taken and by who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ere bullying takes place (provide maps of the school and grounds ask to highlight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3" name="Picture 7" descr="MCPE01837_0000[1]"/>
          <p:cNvPicPr/>
          <p:nvPr/>
        </p:nvPicPr>
        <p:blipFill>
          <a:blip r:embed="rId2"/>
          <a:stretch/>
        </p:blipFill>
        <p:spPr>
          <a:xfrm>
            <a:off x="5013360" y="2112840"/>
            <a:ext cx="33084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510760" cy="11527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MCBD06627_0000[1]"/>
          <p:cNvPicPr/>
          <p:nvPr/>
        </p:nvPicPr>
        <p:blipFill>
          <a:blip r:embed="rId2"/>
          <a:stretch/>
        </p:blipFill>
        <p:spPr>
          <a:xfrm>
            <a:off x="1219320" y="2054160"/>
            <a:ext cx="2590560" cy="2495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o in private, but visible to oth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notes after the interview is ov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lain the need for disclosure if necessa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fy how often bullying is occurr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artner with university researchers to conduct an assessment of bullying behavio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2. Conduct a school-wide anonymous assessment of bullying behavio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3. Include multiple informant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4. Use self-report, other report, observatio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5. Graph data to create a picture of the scope of bullying in your schoo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6. Use data to conduct classroom presentations on bully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Rectangle 2" descr=""/>
          <p:cNvPicPr/>
          <p:nvPr/>
        </p:nvPicPr>
        <p:blipFill>
          <a:blip r:embed="rId1"/>
          <a:stretch/>
        </p:blipFill>
        <p:spPr>
          <a:xfrm>
            <a:off x="176040" y="85680"/>
            <a:ext cx="8676000" cy="1382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. Use the data to create interventions for bully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. Use the data to establish preventative measures to create an antibullying clim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. Share data with parent groups (e.g., PT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. Create a data-based decision-making climate through the use of individual school data to help guide prevention and intervention programm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176040" y="85680"/>
            <a:ext cx="8676000" cy="1382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ake comparisons over tim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ort changes as percentages if the two groups differ in siz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heck trends against whole-school or part-school survey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e there discrepancies between what is reported and number of incidents recorded by staff?  (If so, school’s response system will need reviewing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Espelage, D. L. &amp; Swearer, S. M. (2004). </a:t>
            </a: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Bullying in American schools: A social-ecological perspective on prevention and intervention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Mahwah, NJ: Lawrence Erlbaum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mith, P. (2004).  </a:t>
            </a: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Bullying-Don’t suffer in silence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Goldsmiths College, University of London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291960" y="285840"/>
            <a:ext cx="8345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eets the criteria for a proven program in th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lueprints for Violence Preven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Elliott, 1999)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uccessfully replicated internationally (e.g., Whitney, Rivers, Smith, &amp; Sharp, 1994) and in the United States (Melton et al.,1998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ollows a whole-school multilevel approach that includes core components targeting several levels of the school ecology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mplementation issues across different school ecologies are discusse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enter for the Study and Prevention of Violenc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Institute of Behavioral Scienc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University of Colorado at Bould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oulder, CO 80309-044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303) 492-846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Colorado.EDU/cspv/bluepr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6" name="Rectangle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2" descr=""/>
          <p:cNvPicPr/>
          <p:nvPr/>
        </p:nvPicPr>
        <p:blipFill>
          <a:blip r:embed="rId1"/>
          <a:stretch/>
        </p:blipFill>
        <p:spPr>
          <a:xfrm>
            <a:off x="749160" y="450720"/>
            <a:ext cx="8113680" cy="1158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BullyBusters Book Cover"/>
          <p:cNvPicPr/>
          <p:nvPr/>
        </p:nvPicPr>
        <p:blipFill>
          <a:blip r:embed="rId2"/>
          <a:stretch/>
        </p:blipFill>
        <p:spPr>
          <a:xfrm>
            <a:off x="2971800" y="1981080"/>
            <a:ext cx="3238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tervention and prevention program designed specifically for the middle school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lassroom-level program addresses the essential components of the school ecology that are responsible for chan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ocus on teacher education and trainin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iffering implementation methods facilitate the needs of different school ecolog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www.researchpres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64646"/>
                </a:solidFill>
                <a:latin typeface="Arial"/>
                <a:ea typeface="Times New Roman"/>
              </a:rPr>
              <a:t>Steps to Respect</a:t>
            </a:r>
            <a:r>
              <a:rPr b="0" lang="en-US" sz="4400" spc="-1" strike="noStrike">
                <a:solidFill>
                  <a:srgbClr val="464646"/>
                </a:solidFill>
                <a:latin typeface="Arial"/>
                <a:ea typeface="Times New Roman"/>
              </a:rPr>
              <a:t> (Committee for Childr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ll three phases are in place, your school will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6464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chool policies and procedures for addressing bully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6464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who are trained to recognize and deal with bullying when it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6464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have learned how to recognize, refuse, and report bully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ssive outcome d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velopmental Psych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05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hool Psychology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submi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bystander_title"/>
          <p:cNvPicPr/>
          <p:nvPr/>
        </p:nvPicPr>
        <p:blipFill>
          <a:blip r:embed="rId1"/>
          <a:srcRect l="45832" t="0" r="11998" b="0"/>
          <a:stretch/>
        </p:blipFill>
        <p:spPr>
          <a:xfrm>
            <a:off x="3124080" y="515880"/>
            <a:ext cx="2743200" cy="5716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gatively affected whe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llying occu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63560" indent="-30636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Become anxious and more fearfu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63560" indent="-30636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Lucida Sans Unicod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uld follow a bully’s lead in helping  to victimize another studen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63560" indent="-30636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Lucida Sans Unicod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f they do not see negative consequenc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6356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r the bully, bystanders may be more likely to use aggression in the fu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Picture 4" descr="bystander_character"/>
          <p:cNvPicPr/>
          <p:nvPr/>
        </p:nvPicPr>
        <p:blipFill>
          <a:blip r:embed="rId2"/>
          <a:stretch/>
        </p:blipFill>
        <p:spPr>
          <a:xfrm>
            <a:off x="5715000" y="1752480"/>
            <a:ext cx="2362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685800" y="609480"/>
            <a:ext cx="77724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Arial"/>
              </a:rPr>
              <a:t>Order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5800" y="19810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Committee for Children toll-free: 800-634-4449, ext. 622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:00 a.m.–4:30 p.m. Pacific Time, Monday–Fri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fchildren.org/str/strindex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4"/>
          <p:cNvSpPr/>
          <p:nvPr/>
        </p:nvSpPr>
        <p:spPr>
          <a:xfrm>
            <a:off x="609480" y="1676520"/>
            <a:ext cx="8077320" cy="0"/>
          </a:xfrm>
          <a:prstGeom prst="line">
            <a:avLst/>
          </a:prstGeom>
          <a:ln w="38160">
            <a:solidFill>
              <a:srgbClr val="ff8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Research-based program; research-based mod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cludes a module on bully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User-friend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uy-in issues are addressed fir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omprehensive: Grades 1-3; 4-5; 6-7; 7-8;8-9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U.S. Department of Education Office of Safe and Drug-Free Schools “Exemplary Program.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7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5773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Lucida Sans Unicode"/>
              </a:rPr>
              <a:t>Second Step: A Violence Prevention Curriculum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2203 Airport Way South, Suite 500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eattle, WA  9813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(800) 634-4449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http://www.cfchildren.or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9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 philosophy, not a progra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ssential components: discipline plan, positive climate campaign, gentle warrior, reflection ti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cludes parent worksh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ddresses the school’s unique ecolog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mpressive outcome dat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5345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The Peaceful Schools Project.”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http://www.backoffbully.com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64646"/>
                </a:solidFill>
                <a:latin typeface="Arial"/>
              </a:rPr>
              <a:t>R.E.S.P.E.C.T. </a:t>
            </a:r>
            <a:r>
              <a:rPr b="0" lang="en-US" sz="6000" spc="-1" strike="noStrike" baseline="30000">
                <a:solidFill>
                  <a:srgbClr val="464646"/>
                </a:solidFill>
                <a:latin typeface="Arial"/>
              </a:rPr>
              <a:t>2</a:t>
            </a:r>
            <a:br>
              <a:rPr sz="6000"/>
            </a:br>
            <a:r>
              <a:rPr b="0" lang="en-US" sz="6000" spc="-1" strike="noStrike">
                <a:solidFill>
                  <a:srgbClr val="464646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464646"/>
                </a:solidFill>
                <a:latin typeface="Arial"/>
              </a:rPr>
              <a:t>www.respect2all.or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Empowerment for Students, Parents, Educators &amp; Community Through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a community collaboration to build healthy relationships among children and youth through thea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Lucida Sans Unicode"/>
              </a:rPr>
              <a:t>Bullying Behavior: Current issues, research, and interventions.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Edited by Geffner, R. A., Loring, M. T. &amp; Young, C. (2002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ublished by The Haworth Press, In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0 Alice Stre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inghamtom, NY 13904-158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-800-895-058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ww.HaworthPress.c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Lucida Sans Unicode"/>
              </a:rPr>
              <a:t>Bullying, Peer Harassment, and Victimization in the Schools.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Edited by Elias, M. J. &amp; Zins, J. E. (2002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ublished by The Haworth Press, In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0 Alice Stree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nghamtom, NY 13904-158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-800-895-058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ww.HaworthPress.co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9" name="Rectangle 2" descr=""/>
          <p:cNvPicPr/>
          <p:nvPr/>
        </p:nvPicPr>
        <p:blipFill>
          <a:blip r:embed="rId1"/>
          <a:stretch/>
        </p:blipFill>
        <p:spPr>
          <a:xfrm>
            <a:off x="133200" y="-109440"/>
            <a:ext cx="8560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 Unicode"/>
              </a:rPr>
              <a:t>Resilient Classrooms.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Doll, B., Zucker, S., &amp; Brehm, K. (2004)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blished by The Guilford Pres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2 Spring Str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w York, NY  10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ww.guilford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133200" y="-109440"/>
            <a:ext cx="8560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191120" cy="50292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1422360" y="5429160"/>
            <a:ext cx="65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rence Erlbaum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rlbau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ies with age—as students get older, they become more supportive of bullying and less likely to interve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irls tend to be more supportive of victims, but are not necessarily more likely to interve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ulture of silence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mith, P. (200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Bullying—Don’t Suffer in Silence.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oldsmiths College, University of Lond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 Unicode"/>
              </a:rPr>
              <a:t>And Words can Hurt Forever: How to Protect Adolescents from Bullying, Harassment, and Emotional Violence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(2002)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y James Garbarino and Ellen deLara. The Free Press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heras, P. L. with Thompson, A (2002).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 Unicode"/>
              </a:rPr>
              <a:t>Your Child: Bully or Victim? Understanding and Ending School Yard Tyranny.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New York: Fireside (Simon &amp; Schuster)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ully Dance” video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llfrog Fil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x 14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ley, PA  195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610) 779-822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b: www.bullfrogfilm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topbullyingnow.hrsa.go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targetbully.c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backoffbully.c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ttp:///www.pta.org/bullying/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dac.neu.edu/cp/mspa/html1/mspa32.ht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nea.org/schoolsafety/bullying.htm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http://www.clemson.edu/olweus/index.htm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http://www.mentalhealth.samhsa.gov/15plus/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outbullying.as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1" name="Rectangle 2" descr=""/>
          <p:cNvPicPr/>
          <p:nvPr/>
        </p:nvPicPr>
        <p:blipFill>
          <a:blip r:embed="rId8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dults are often unaware of bullying problems (Limber, 2002; Skiba &amp; Fontanini, 2000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25% of teachers see nothing wrong with bullying or putdowns, and consequently intervene in only 4% of bullying incidents (Cohn&amp; Canter, 2002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tudents often feel that adult intervention is infrequent and/or unhelpful and they often fear that telling adults will only bring more harassment from bullies (Banks, 1997; Mullin-Rindler, 2003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219240" y="55440"/>
            <a:ext cx="8474040" cy="137664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tablishing school-wide bully prevention progra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tablishing school-wide anti-bullying polic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sessing school climat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our duty as educators to provide a safe school environment for all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y age 24, 60% of identified bullies may have criminal convictions (Banks, 2000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hildren who are repeatedly victimized sometimes see suicide as their only escap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ullying is the most underrated and enduring problem in schools toda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any adults do not know how to intervene in bullying situations, therefore bullying is overlooke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motional scars can last a lifetim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669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ssess your school’s needs and goa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elp develop an anti-bullying polic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vide training for teachers, administrators, and other school staf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volve par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dentify resources for bullies, victims, and famil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elp integrate anti-bullying themes and activities into curricul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itiate conversations with students about bully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ncourage students to report incidents of bully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ork with students on developing assertiveness and conflict resolution skil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cus on developing empathy and respect for oth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School wide Prevention of Bullying,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Northwest Regional Educational laboratory, December, 2001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13712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cus on the social environment of the schoo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ssess bullying at your schoo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Obtain staff and parent buy-in and support for bullying preven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eet regularly to review finding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ovide training for school staff in bullying preven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stablish and enforce school rules and policies related to bully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adult supervision in “hot spots” for bully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tervene consistently and appropriately when you see bully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evote some class time to bullying preven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Limber, S. (2004). What works—and doesn’t in bullying prevention and intervention.</a:t>
            </a:r>
            <a:r>
              <a:rPr b="0" i="1" lang="en-US" sz="1500" spc="-1" strike="noStrike">
                <a:solidFill>
                  <a:srgbClr val="000000"/>
                </a:solidFill>
                <a:latin typeface="Lucida Sans Unicode"/>
              </a:rPr>
              <a:t> Student Assistance Journal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, 16-19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Garrity, Jens, Porter, Sager &amp; Short-Camilli (1996). Without intervention, bully problems will not go away” In </a:t>
            </a:r>
            <a:r>
              <a:rPr b="0" i="1" lang="en-US" sz="1500" spc="-1" strike="noStrike">
                <a:solidFill>
                  <a:srgbClr val="000000"/>
                </a:solidFill>
                <a:latin typeface="Lucida Sans Unicode"/>
              </a:rPr>
              <a:t>Bully–proofing your school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. Longmont, CO: Sopris West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219240" y="-30240"/>
            <a:ext cx="84740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9:27:22Z</dcterms:created>
  <dc:creator>IT</dc:creator>
  <dc:description/>
  <dc:language>en-US</dc:language>
  <cp:lastModifiedBy>Lynn</cp:lastModifiedBy>
  <dcterms:modified xsi:type="dcterms:W3CDTF">2010-11-18T01:38:19Z</dcterms:modified>
  <cp:revision>30</cp:revision>
  <dc:subject/>
  <dc:title>Preventing School Bullying: What is the School Psychologist’s Role?</dc:title>
</cp:coreProperties>
</file>